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qds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C8C-8491-42D7-8917-D9872B7278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3B23-BED1-4E3E-B508-FE09F9E903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e l'en-tête 4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qd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711-B452-474D-BCC7-1B50C742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BE3-FA79-40A0-9056-45DB5D02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85B-BC26-44CB-9D57-FC157C52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E56-DF5C-446A-BA19-7023ED38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35B-E2ED-4AF5-AD37-D9297842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3A9CC-22F2-474D-B5FC-D38EDA58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4A23D-EA4B-454B-B550-6455C755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2D055-AD5B-40C9-9E23-866A83F9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9CBDA-6AE0-42F6-BEDA-F48E5643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B0F4D-F9BE-4F3E-B25D-2AAA671E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A29-EAE8-4CC3-9193-91944338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1E121-47A0-4DDF-A9AF-303939E8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EF040-362C-4F35-97B2-381F4E1C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1356C-EB73-4E15-994A-69687EE5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59861-7A86-4EF2-84AF-38C81BEC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ACA06-FE14-4477-9E01-61A95C04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DCA4B-87DC-4CCF-9095-7BF096B3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5B719-EBC8-422A-8906-FF607D00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E926-47CB-4F7C-A071-AED842C7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5723D-0AC5-457F-918B-A09FFD7D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C7295-B699-458D-A879-B4594A0A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9BA-3839-4F5D-B3F3-3ECF15FB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EE99-78BE-4233-A538-C3131A27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BC04-EBD8-4B7A-BF21-CF779146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CDFC-27D9-43CD-BFF5-41329C85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1D5D1-B95E-4B42-88C3-A57AC760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7B00C-2162-4652-85BB-64E16E14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3163F-9497-4652-8596-751B471D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1561-C3D3-4B9C-B78C-57815A4A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7FA78-8FBA-4FED-83D1-E48F4986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9CB3-4767-4CD6-9420-5C5BF4A5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40F1-69F6-4861-99FB-DEF7BC32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505-4AE9-43F3-90C1-A795575D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6BA25-F7C6-4E06-AFE6-A9903D2C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2965-D8DF-4781-ABFB-6CEB4BA8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C057D-9E04-40D7-AC5D-F332BDEE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493EA-6262-43B1-86C7-04EA6BD2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ADEDE-8DD8-42EB-99CD-72B5F660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47A75-A02F-4BC3-B9C7-A67825C9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27F89-7D6C-46C0-A83F-C83F78D8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A7E5E-4BA0-4643-B581-93C3F01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2B87D-D43C-40EF-BF32-14259545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24CEF-231A-4D74-A616-AF449542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CE4-2EF9-424E-A11E-D427BDB8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44DD-DE98-4177-9BCF-C4993058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18B-CDC5-4B68-9C19-91A7D766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018-ACFF-4B3F-ADAC-2300B26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4C6-85D2-414E-982A-578F22C8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911B-8B05-4462-A698-A1E1FC975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6"/>
          <p:cNvSpPr/>
          <p:nvPr/>
        </p:nvSpPr>
        <p:spPr>
          <a:xfrm>
            <a:off x="4857840" y="6357960"/>
            <a:ext cx="36432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11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 www.eu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logo_eun.jpg"/>
          <p:cNvPicPr/>
          <p:nvPr/>
        </p:nvPicPr>
        <p:blipFill>
          <a:blip r:embed="rId3"/>
          <a:stretch/>
        </p:blipFill>
        <p:spPr>
          <a:xfrm>
            <a:off x="4786200" y="2071800"/>
            <a:ext cx="3714840" cy="1646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6" descr="logo_europeanschoolnet.jpg"/>
          <p:cNvPicPr/>
          <p:nvPr/>
        </p:nvPicPr>
        <p:blipFill>
          <a:blip r:embed="rId3"/>
          <a:stretch/>
        </p:blipFill>
        <p:spPr>
          <a:xfrm>
            <a:off x="4103640" y="6264360"/>
            <a:ext cx="1246320" cy="571320"/>
          </a:xfrm>
          <a:prstGeom prst="rect">
            <a:avLst/>
          </a:prstGeom>
          <a:ln w="0">
            <a:noFill/>
          </a:ln>
        </p:spPr>
      </p:pic>
      <p:sp>
        <p:nvSpPr>
          <p:cNvPr id="82" name="Espace réservé du pied de page 4"/>
          <p:cNvSpPr/>
          <p:nvPr/>
        </p:nvSpPr>
        <p:spPr>
          <a:xfrm>
            <a:off x="5143680" y="636696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www.eun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8215200" y="6356160"/>
            <a:ext cx="4716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559A-9F79-4876-91B3-C8ACB143EDB2}" type="slidenum"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6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 6" descr="logo_europeanschoolnet.jpg"/>
          <p:cNvPicPr/>
          <p:nvPr/>
        </p:nvPicPr>
        <p:blipFill>
          <a:blip r:embed="rId3"/>
          <a:stretch/>
        </p:blipFill>
        <p:spPr>
          <a:xfrm>
            <a:off x="4103640" y="6264360"/>
            <a:ext cx="1246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Espace réservé du pied de page 4"/>
          <p:cNvSpPr/>
          <p:nvPr/>
        </p:nvSpPr>
        <p:spPr>
          <a:xfrm>
            <a:off x="5143680" y="636696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www.eun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215200" y="6356160"/>
            <a:ext cx="4716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11B3-637B-4819-9EBE-5BA041AE3CFF}" type="slidenum"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age 6" descr="logo_europeanschoolnet.jpg"/>
          <p:cNvPicPr/>
          <p:nvPr/>
        </p:nvPicPr>
        <p:blipFill>
          <a:blip r:embed="rId3"/>
          <a:stretch/>
        </p:blipFill>
        <p:spPr>
          <a:xfrm>
            <a:off x="4103640" y="6264360"/>
            <a:ext cx="1246320" cy="57132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4"/>
          <p:cNvSpPr/>
          <p:nvPr/>
        </p:nvSpPr>
        <p:spPr>
          <a:xfrm>
            <a:off x="5143680" y="636696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177c1"/>
                </a:solidFill>
                <a:latin typeface="Arial"/>
                <a:ea typeface="Arial"/>
              </a:rPr>
              <a:t>www.europeanschoolnet.org - www.eun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28/0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Powerpoint template - Patricia Munoz 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8215200" y="6356160"/>
            <a:ext cx="4716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177c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A9B2-4B19-492F-8F8D-206C5129A08C}" type="slidenum">
              <a:rPr b="1" lang="fr-FR" sz="1200" spc="-1" strike="noStrike">
                <a:solidFill>
                  <a:srgbClr val="0177c1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inked-project.wikispaces.com/" TargetMode="External"/><Relationship Id="rId2" Type="http://schemas.openxmlformats.org/officeDocument/2006/relationships/hyperlink" Target="mailto:linked@eun.org" TargetMode="Externa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inked-project.wikispaces.com/" TargetMode="External"/><Relationship Id="rId2" Type="http://schemas.openxmlformats.org/officeDocument/2006/relationships/hyperlink" Target="http://linked-project.wikispaces.com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57240" y="3428640"/>
            <a:ext cx="70725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177c1"/>
                </a:solidFill>
                <a:latin typeface="Arial"/>
                <a:ea typeface="Arial"/>
              </a:rPr>
              <a:t>LINKED kick-off meeting</a:t>
            </a:r>
            <a:br>
              <a:rPr sz="3600"/>
            </a:br>
            <a:r>
              <a:rPr b="0" lang="fr-BE" sz="3600" spc="-1" strike="noStrike">
                <a:solidFill>
                  <a:srgbClr val="0177c1"/>
                </a:solidFill>
                <a:latin typeface="Arial"/>
                <a:ea typeface="Arial"/>
              </a:rPr>
              <a:t>Content of Work Packages 1-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856880" y="5148360"/>
            <a:ext cx="66438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177c1"/>
                </a:solidFill>
                <a:latin typeface="Arial"/>
                <a:ea typeface="Arial"/>
              </a:rPr>
              <a:t>Brussels, 17-18 March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177c1"/>
                </a:solidFill>
                <a:latin typeface="Arial"/>
                <a:ea typeface="Arial"/>
              </a:rPr>
              <a:t>Caroline Kearne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  <a:ea typeface="Arial"/>
              </a:rPr>
              <a:t>WP 4: Technical development (EU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57120" y="1285560"/>
            <a:ext cx="85010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Development of technical specifications           based on input from WPs 2 &amp; 3 (i.e. literature review, testing &amp; feedback, user nee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Features of brokerage platfor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Community of practice 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(link to Games in Schools NING: 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amesinschools.ning.com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Web content pages 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(relevant news, events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Document/resource library 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(upload/download relevant do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Videos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 (existing ones &amp; new ones to be produc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RSS aggregator 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(from national sources &amp; brokerage syste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  <a:ea typeface="Arial"/>
              </a:rPr>
              <a:t>Search tool </a:t>
            </a:r>
            <a:r>
              <a:rPr b="0" lang="fr-FR" sz="2200" spc="-1" strike="noStrike">
                <a:solidFill>
                  <a:srgbClr val="005b94"/>
                </a:solidFill>
                <a:latin typeface="Arial"/>
                <a:ea typeface="Arial"/>
              </a:rPr>
              <a:t>(by keywords, country, language, type of content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Espace réservé de la date 7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space réservé du pied de page 8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space réservé du numéro de diapositive 11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C1F0-05A7-42B5-95FA-C04F066CE2D8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ight Arrow 6"/>
          <p:cNvSpPr/>
          <p:nvPr/>
        </p:nvSpPr>
        <p:spPr>
          <a:xfrm>
            <a:off x="5715000" y="1357200"/>
            <a:ext cx="785880" cy="3574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  <a:ea typeface="Arial"/>
              </a:rPr>
              <a:t>WP 5: Debriefing &amp; evaluation (ANSA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3840" y="1285560"/>
            <a:ext cx="8572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2 aspects to be evalu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The quality of: - consortium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                        </a:t>
            </a: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- brokerage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Through formative and summative pee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Quality plan to be produced in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April </a:t>
            </a: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for internal project processes &amp;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94"/>
                </a:solidFill>
                <a:latin typeface="Arial"/>
                <a:ea typeface="Arial"/>
              </a:rPr>
              <a:t>Final evaluation report        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January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ce réservé de la date 7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pied de page 8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numéro de diapositive 11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D3C1-D81F-470E-BB95-380BD564F17F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ight Arrow 6"/>
          <p:cNvSpPr/>
          <p:nvPr/>
        </p:nvSpPr>
        <p:spPr>
          <a:xfrm>
            <a:off x="4786200" y="5286240"/>
            <a:ext cx="785880" cy="3574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379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  <a:ea typeface="Arial"/>
              </a:rPr>
              <a:t>WP 6: Dissemination &amp; sustainability (EU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85480" y="1357200"/>
            <a:ext cx="86439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Communication plan at European &amp; national level to include us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EUN/national web portals (promote through news &amp; even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EUN/national newsletters to policy makers &amp; tea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Press rel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Vide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Training workshop on platform for policy makers &amp; teachers (Eminent 2010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Final dissemination &amp; sustainability plan       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  January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b08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Espace réservé de la date 7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Espace réservé du pied de page 8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11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B43F-37A5-4502-9F87-725B74B7251A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ight Arrow 6"/>
          <p:cNvSpPr/>
          <p:nvPr/>
        </p:nvSpPr>
        <p:spPr>
          <a:xfrm>
            <a:off x="6143760" y="5214960"/>
            <a:ext cx="785520" cy="3571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8358120" cy="9284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INKED: February 2010 – January 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28400" y="1356840"/>
            <a:ext cx="8429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INKED</a:t>
            </a:r>
            <a:r>
              <a:rPr b="0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</a:t>
            </a:r>
            <a:r>
              <a:rPr b="0" i="1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everaging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nnovation for a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etwork of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0" i="1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nowledge on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0" i="1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1 year project funded under the EC’s Lifelong Learning Program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to develop a dynamic online brokerage platform on digital skills &amp; digital games for policy makers and practitio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98A0-2856-4BEA-8D24-0524D3666769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5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  <a:ea typeface="Arial"/>
              </a:rPr>
              <a:t>LINKED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à coins arrondis 4"/>
          <p:cNvSpPr/>
          <p:nvPr/>
        </p:nvSpPr>
        <p:spPr>
          <a:xfrm>
            <a:off x="3000240" y="1500120"/>
            <a:ext cx="3071880" cy="857160"/>
          </a:xfrm>
          <a:prstGeom prst="roundRect">
            <a:avLst>
              <a:gd name="adj" fmla="val 16667"/>
            </a:avLst>
          </a:prstGeom>
          <a:solidFill>
            <a:srgbClr val="005b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EUN -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(Leader of WPs 1,4 &amp; 6)</a:t>
            </a:r>
            <a:r>
              <a:rPr b="0" lang="fr-BE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à coins arrondis 5"/>
          <p:cNvSpPr/>
          <p:nvPr/>
        </p:nvSpPr>
        <p:spPr>
          <a:xfrm>
            <a:off x="285840" y="3000240"/>
            <a:ext cx="2357280" cy="857520"/>
          </a:xfrm>
          <a:prstGeom prst="roundRect">
            <a:avLst>
              <a:gd name="adj" fmla="val 16667"/>
            </a:avLst>
          </a:prstGeom>
          <a:solidFill>
            <a:srgbClr val="017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NCIE,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(Leader of WP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à coins arrondis 6"/>
          <p:cNvSpPr/>
          <p:nvPr/>
        </p:nvSpPr>
        <p:spPr>
          <a:xfrm>
            <a:off x="3429000" y="3000240"/>
            <a:ext cx="2286000" cy="857520"/>
          </a:xfrm>
          <a:prstGeom prst="roundRect">
            <a:avLst>
              <a:gd name="adj" fmla="val 16667"/>
            </a:avLst>
          </a:prstGeom>
          <a:solidFill>
            <a:srgbClr val="017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Uni. of Helsinki, 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(Leader of WP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à coins arrondis 7"/>
          <p:cNvSpPr/>
          <p:nvPr/>
        </p:nvSpPr>
        <p:spPr>
          <a:xfrm>
            <a:off x="357120" y="464328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a5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b94"/>
                </a:solidFill>
                <a:latin typeface="Arial"/>
                <a:ea typeface="Arial"/>
              </a:rPr>
              <a:t>DGIDC,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e la date 19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pied de page 20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16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709D-0AD6-40DF-9784-C65097B5F1F1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à coins arrondis 6"/>
          <p:cNvSpPr/>
          <p:nvPr/>
        </p:nvSpPr>
        <p:spPr>
          <a:xfrm>
            <a:off x="6143760" y="3000240"/>
            <a:ext cx="2286000" cy="857520"/>
          </a:xfrm>
          <a:prstGeom prst="roundRect">
            <a:avLst>
              <a:gd name="adj" fmla="val 16667"/>
            </a:avLst>
          </a:prstGeom>
          <a:solidFill>
            <a:srgbClr val="017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ANSAS,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(Leader of WP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à coins arrondis 7"/>
          <p:cNvSpPr/>
          <p:nvPr/>
        </p:nvSpPr>
        <p:spPr>
          <a:xfrm>
            <a:off x="3429000" y="4643280"/>
            <a:ext cx="2357280" cy="785880"/>
          </a:xfrm>
          <a:prstGeom prst="roundRect">
            <a:avLst>
              <a:gd name="adj" fmla="val 16667"/>
            </a:avLst>
          </a:prstGeom>
          <a:solidFill>
            <a:srgbClr val="a5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b94"/>
                </a:solidFill>
                <a:latin typeface="Arial"/>
                <a:ea typeface="Arial"/>
              </a:rPr>
              <a:t>Tiger Leap Foundation,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à coins arrondis 7"/>
          <p:cNvSpPr/>
          <p:nvPr/>
        </p:nvSpPr>
        <p:spPr>
          <a:xfrm>
            <a:off x="6215040" y="471492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a5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b94"/>
                </a:solidFill>
                <a:latin typeface="Arial"/>
                <a:ea typeface="Arial"/>
              </a:rPr>
              <a:t>CITE,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63828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of work packages 1-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pied de page 3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e la date 6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numéro de diapositive 7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85D8-A7C4-4763-A490-8B25494EAF49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rcRect l="14247" t="24290" r="15800" b="14177"/>
          <a:stretch/>
        </p:blipFill>
        <p:spPr>
          <a:xfrm>
            <a:off x="285840" y="857160"/>
            <a:ext cx="8572320" cy="537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  <a:ea typeface="Arial"/>
              </a:rPr>
              <a:t>WP 1: Management (EU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4200" y="1214280"/>
            <a:ext cx="835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3 management meeting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- kick-off meeting: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17-18 March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- mid-project meeting: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22 June 2010</a:t>
            </a: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             PIC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- final meeting: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Nov. 2010</a:t>
            </a: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            EMINENT confer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Additional conference calls if needed </a:t>
            </a:r>
            <a:r>
              <a:rPr b="0" lang="en-US" sz="4800" spc="-1" strike="noStrike">
                <a:solidFill>
                  <a:srgbClr val="005b94"/>
                </a:solidFill>
                <a:latin typeface="Wingdings"/>
                <a:ea typeface="Wingdings"/>
              </a:rPr>
              <a:t>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Follow-up to all meetings (agenda, minutes, working documents etc.) to be stored on LINKED wik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linked-project.wikispaces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e la date 7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8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11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2385-18BE-476A-BC19-8DCCA49053B7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ight Arrow 6"/>
          <p:cNvSpPr/>
          <p:nvPr/>
        </p:nvSpPr>
        <p:spPr>
          <a:xfrm>
            <a:off x="5357880" y="214308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ight Arrow 7"/>
          <p:cNvSpPr/>
          <p:nvPr/>
        </p:nvSpPr>
        <p:spPr>
          <a:xfrm>
            <a:off x="3929040" y="2571840"/>
            <a:ext cx="85716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  <a:ea typeface="Arial"/>
              </a:rPr>
              <a:t>WP 1: Management (EU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480" y="1285560"/>
            <a:ext cx="8643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LINKED wiki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linked-project.wikispaces.com</a:t>
            </a:r>
            <a:r>
              <a:rPr b="0" lang="en-US" sz="2400" spc="-1" strike="noStrike" u="sng">
                <a:solidFill>
                  <a:srgbClr val="005b94"/>
                </a:solidFill>
                <a:uFillTx/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 document repository &amp; work space</a:t>
            </a: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 to facilitate coordination &amp; exchange among partners (all documents &amp; templates for WP’s will be stored here </a:t>
            </a:r>
            <a:r>
              <a:rPr b="0" lang="en-US" sz="2400" spc="-1" strike="noStrike">
                <a:solidFill>
                  <a:srgbClr val="005b94"/>
                </a:solidFill>
                <a:latin typeface="Wingdings"/>
                <a:ea typeface="Wingdings"/>
              </a:rPr>
              <a:t></a:t>
            </a:r>
            <a:r>
              <a:rPr b="0" lang="en-US" sz="2400" spc="-1" strike="noStrike">
                <a:solidFill>
                  <a:srgbClr val="005b94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LINKED mailing list (</a:t>
            </a:r>
            <a:r>
              <a:rPr b="0" lang="fr-BE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linked@eun.org</a:t>
            </a: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)          </a:t>
            </a: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to communicate easily with all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b94"/>
                </a:solidFill>
                <a:latin typeface="Arial"/>
                <a:ea typeface="Arial"/>
              </a:rPr>
              <a:t>Coordination of all project tasks, contractual &amp; financial aspects to be managed by EUN, in cooperation with all partners           Final management report by EUN,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Jan.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e la date 7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pied de page 8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numéro de diapositive 11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3863-F529-46B2-AA3A-9D839EAED318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ight Arrow 6"/>
          <p:cNvSpPr/>
          <p:nvPr/>
        </p:nvSpPr>
        <p:spPr>
          <a:xfrm>
            <a:off x="7715160" y="1357200"/>
            <a:ext cx="857520" cy="3574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ight Arrow 7"/>
          <p:cNvSpPr/>
          <p:nvPr/>
        </p:nvSpPr>
        <p:spPr>
          <a:xfrm>
            <a:off x="5715000" y="3643200"/>
            <a:ext cx="85716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ight Arrow 8"/>
          <p:cNvSpPr/>
          <p:nvPr/>
        </p:nvSpPr>
        <p:spPr>
          <a:xfrm>
            <a:off x="1857240" y="5643720"/>
            <a:ext cx="85752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5144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LINKED wiki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linked-project.wikispaces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Date Placeholder 4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5"/>
          <p:cNvSpPr/>
          <p:nvPr/>
        </p:nvSpPr>
        <p:spPr>
          <a:xfrm>
            <a:off x="500040" y="71280"/>
            <a:ext cx="7143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6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8CF3-F88C-4A0E-B56A-856416FD639A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3"/>
          <a:srcRect l="0" t="13491" r="1078" b="5577"/>
          <a:stretch/>
        </p:blipFill>
        <p:spPr>
          <a:xfrm>
            <a:off x="285840" y="1095480"/>
            <a:ext cx="8429400" cy="519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  <a:ea typeface="Arial"/>
              </a:rPr>
              <a:t>WP 2: Testing &amp; blueprint (NCIE, NO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e la date 6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pied de page 7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8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5FF0-03D5-4221-8997-9B4055A56EEE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à coins arrondis 9"/>
          <p:cNvSpPr/>
          <p:nvPr/>
        </p:nvSpPr>
        <p:spPr>
          <a:xfrm>
            <a:off x="3571920" y="1285920"/>
            <a:ext cx="2214360" cy="857160"/>
          </a:xfrm>
          <a:prstGeom prst="roundRect">
            <a:avLst>
              <a:gd name="adj" fmla="val 16667"/>
            </a:avLst>
          </a:prstGeom>
          <a:solidFill>
            <a:srgbClr val="005b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Blueprint for LINKED brokerage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rc 23"/>
          <p:cNvSpPr/>
          <p:nvPr/>
        </p:nvSpPr>
        <p:spPr>
          <a:xfrm rot="20220600">
            <a:off x="4993920" y="2154240"/>
            <a:ext cx="1428840" cy="135720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à coins arrondis 26"/>
          <p:cNvSpPr/>
          <p:nvPr/>
        </p:nvSpPr>
        <p:spPr>
          <a:xfrm>
            <a:off x="5643720" y="2714760"/>
            <a:ext cx="192852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a7e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Literature Review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NCIE, 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à coins arrondis 27"/>
          <p:cNvSpPr/>
          <p:nvPr/>
        </p:nvSpPr>
        <p:spPr>
          <a:xfrm>
            <a:off x="5429160" y="457200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Task to test brokerage platforms (E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à coins arrondis 28"/>
          <p:cNvSpPr/>
          <p:nvPr/>
        </p:nvSpPr>
        <p:spPr>
          <a:xfrm>
            <a:off x="2357280" y="4643280"/>
            <a:ext cx="1643400" cy="857520"/>
          </a:xfrm>
          <a:prstGeom prst="roundRect">
            <a:avLst>
              <a:gd name="adj" fmla="val 16667"/>
            </a:avLst>
          </a:prstGeom>
          <a:solidFill>
            <a:srgbClr val="0177c1"/>
          </a:solidFill>
          <a:ln w="25560">
            <a:solidFill>
              <a:srgbClr val="0177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Feed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(all partn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à coins arrondis 29"/>
          <p:cNvSpPr/>
          <p:nvPr/>
        </p:nvSpPr>
        <p:spPr>
          <a:xfrm>
            <a:off x="1785960" y="2714760"/>
            <a:ext cx="1571760" cy="857160"/>
          </a:xfrm>
          <a:prstGeom prst="roundRect">
            <a:avLst>
              <a:gd name="adj" fmla="val 16667"/>
            </a:avLst>
          </a:prstGeom>
          <a:solidFill>
            <a:srgbClr val="006b83"/>
          </a:solidFill>
          <a:ln w="25560">
            <a:solidFill>
              <a:srgbClr val="006b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Analysis of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(NCIE, 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30"/>
          <p:cNvSpPr/>
          <p:nvPr/>
        </p:nvSpPr>
        <p:spPr>
          <a:xfrm rot="2311800">
            <a:off x="4708080" y="2889000"/>
            <a:ext cx="1873440" cy="177948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31"/>
          <p:cNvSpPr/>
          <p:nvPr/>
        </p:nvSpPr>
        <p:spPr>
          <a:xfrm rot="11271600">
            <a:off x="2612520" y="2976480"/>
            <a:ext cx="1873440" cy="178128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32"/>
          <p:cNvSpPr/>
          <p:nvPr/>
        </p:nvSpPr>
        <p:spPr>
          <a:xfrm rot="15351600">
            <a:off x="2904480" y="2180160"/>
            <a:ext cx="1428480" cy="135720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rc 33"/>
          <p:cNvSpPr/>
          <p:nvPr/>
        </p:nvSpPr>
        <p:spPr>
          <a:xfrm rot="6232800">
            <a:off x="3797640" y="3691440"/>
            <a:ext cx="1660680" cy="161748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8286840" cy="7855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  <a:ea typeface="Arial"/>
              </a:rPr>
              <a:t>WP 3: Content of brokerage platform (Uni. Helsink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Espace réservé de la date 6"/>
          <p:cNvSpPr/>
          <p:nvPr/>
        </p:nvSpPr>
        <p:spPr>
          <a:xfrm>
            <a:off x="7786800" y="71280"/>
            <a:ext cx="99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pied de page 7"/>
          <p:cNvSpPr/>
          <p:nvPr/>
        </p:nvSpPr>
        <p:spPr>
          <a:xfrm>
            <a:off x="428760" y="71280"/>
            <a:ext cx="72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numéro de diapositive 8"/>
          <p:cNvSpPr/>
          <p:nvPr/>
        </p:nvSpPr>
        <p:spPr>
          <a:xfrm>
            <a:off x="8215200" y="6356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26D2-8A71-41E5-B212-AEF79C053336}" type="slidenum">
              <a:rPr b="1" lang="fr-FR" sz="1200" spc="-1" strike="noStrike">
                <a:solidFill>
                  <a:srgbClr val="0177c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à coins arrondis 9"/>
          <p:cNvSpPr/>
          <p:nvPr/>
        </p:nvSpPr>
        <p:spPr>
          <a:xfrm>
            <a:off x="3571920" y="1285920"/>
            <a:ext cx="2214360" cy="857160"/>
          </a:xfrm>
          <a:prstGeom prst="roundRect">
            <a:avLst>
              <a:gd name="adj" fmla="val 16667"/>
            </a:avLst>
          </a:prstGeom>
          <a:solidFill>
            <a:srgbClr val="005b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LINKED brokerage platform (digital Skills &amp; g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rc 23"/>
          <p:cNvSpPr/>
          <p:nvPr/>
        </p:nvSpPr>
        <p:spPr>
          <a:xfrm rot="20220600">
            <a:off x="4922640" y="2082960"/>
            <a:ext cx="1428480" cy="135720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à coins arrondis 26"/>
          <p:cNvSpPr/>
          <p:nvPr/>
        </p:nvSpPr>
        <p:spPr>
          <a:xfrm>
            <a:off x="5429160" y="2571840"/>
            <a:ext cx="264312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a7e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Questionnaire on desired knowledge &amp; format (Policy: EUN, Practice: Uni. Helsin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à coins arrondis 27"/>
          <p:cNvSpPr/>
          <p:nvPr/>
        </p:nvSpPr>
        <p:spPr>
          <a:xfrm>
            <a:off x="5214960" y="4429080"/>
            <a:ext cx="3000240" cy="85716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Translate knowledge requests into research questions (Uni. Helsin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à coins arrondis 28"/>
          <p:cNvSpPr/>
          <p:nvPr/>
        </p:nvSpPr>
        <p:spPr>
          <a:xfrm>
            <a:off x="1857240" y="4500720"/>
            <a:ext cx="2143440" cy="1071360"/>
          </a:xfrm>
          <a:prstGeom prst="roundRect">
            <a:avLst>
              <a:gd name="adj" fmla="val 16667"/>
            </a:avLst>
          </a:prstGeom>
          <a:solidFill>
            <a:srgbClr val="0177c1"/>
          </a:solidFill>
          <a:ln w="25560">
            <a:solidFill>
              <a:srgbClr val="0177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Collection of relevant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(all partners) &amp; videos (E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à coins arrondis 29"/>
          <p:cNvSpPr/>
          <p:nvPr/>
        </p:nvSpPr>
        <p:spPr>
          <a:xfrm>
            <a:off x="1000080" y="2500200"/>
            <a:ext cx="2786040" cy="1214640"/>
          </a:xfrm>
          <a:prstGeom prst="roundRect">
            <a:avLst>
              <a:gd name="adj" fmla="val 16667"/>
            </a:avLst>
          </a:prstGeom>
          <a:solidFill>
            <a:srgbClr val="006b83"/>
          </a:solidFill>
          <a:ln w="25560">
            <a:solidFill>
              <a:srgbClr val="006b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  <a:ea typeface="Arial"/>
              </a:rPr>
              <a:t>Research reviews/knowledge outputs tailored to user needs (Uni. Henslink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30"/>
          <p:cNvSpPr/>
          <p:nvPr/>
        </p:nvSpPr>
        <p:spPr>
          <a:xfrm rot="2311800">
            <a:off x="4708080" y="2889000"/>
            <a:ext cx="1873440" cy="177948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31"/>
          <p:cNvSpPr/>
          <p:nvPr/>
        </p:nvSpPr>
        <p:spPr>
          <a:xfrm rot="11271600">
            <a:off x="2612520" y="2976480"/>
            <a:ext cx="1873440" cy="178128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32"/>
          <p:cNvSpPr/>
          <p:nvPr/>
        </p:nvSpPr>
        <p:spPr>
          <a:xfrm rot="15351600">
            <a:off x="2975760" y="2108160"/>
            <a:ext cx="1428840" cy="135756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33"/>
          <p:cNvSpPr/>
          <p:nvPr/>
        </p:nvSpPr>
        <p:spPr>
          <a:xfrm rot="6232800">
            <a:off x="3583440" y="3834360"/>
            <a:ext cx="1660680" cy="1617840"/>
          </a:xfrm>
          <a:prstGeom prst="pie">
            <a:avLst/>
          </a:prstGeom>
          <a:noFill/>
          <a:ln w="25560">
            <a:solidFill>
              <a:srgbClr val="ffcb0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6:21Z</dcterms:created>
  <dc:creator>Gilles</dc:creator>
  <dc:description/>
  <dc:language>en-US</dc:language>
  <cp:lastModifiedBy>Administrator</cp:lastModifiedBy>
  <dcterms:modified xsi:type="dcterms:W3CDTF">2010-03-16T20:04:10Z</dcterms:modified>
  <cp:revision>120</cp:revision>
  <dc:subject/>
  <dc:title>Title</dc:title>
</cp:coreProperties>
</file>